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E080-4F27-4F8F-9F3C-759CF6409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D81E-5F60-40C7-AA30-07231A472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2B00-46C5-431E-86D0-2EE6D4615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17E6-CEEE-41E3-B3E4-EAED89B42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E7F5-DEE0-456F-9FF6-ADF72305D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04C7-59A5-4B21-B7DD-D1B28A17A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0974-81ED-465E-8722-43DB40C64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B90F-FAAF-4B92-B363-250BBD088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4BAE-89F6-4DDA-A22D-B524DEF42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6645-22D8-45E1-BB8E-87C2408F1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4C13-EBB2-4937-82F7-CAEBA58DE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DD47-8B8D-4600-9BCB-8ECC4C83E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.2-</a:t>
            </a:r>
            <a:fld id="{7AA91C01-2442-4410-9E5A-76CD242353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indicat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pretérito pluscuamperfecto de indicat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used to talk about what some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 d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 occur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another past action, event, or state. Like the present perfect, the past perfect uses a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 this case, the imperfect—plus the past partici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98EE-8EAB-408F-A5F0-FD67EB995E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330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4998960"/>
            <a:ext cx="8229600" cy="98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233E-9F1A-40F7-BA95-EFC3C3F17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is often used with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indicate that an action, event, or state had already occurred before another. Remember that, unlike its English equival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be placed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past partici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403880"/>
            <a:ext cx="82296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41C6-1448-4670-B84A-5EDB025722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is often u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junction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o describe when the action(s)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473280"/>
            <a:ext cx="822960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D8F4-8484-46AF-B826-E3CF3D439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19240" y="2157480"/>
          <a:ext cx="8704080" cy="4037040"/>
        </p:xfrm>
        <a:graphic>
          <a:graphicData uri="http://schemas.openxmlformats.org/drawingml/2006/table">
            <a:tbl>
              <a:tblPr/>
              <a:tblGrid>
                <a:gridCol w="8704080"/>
              </a:tblGrid>
              <a:tr h="107892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el pretérito pluscuamperfecto de indicativo de cada verbo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9775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ya __________________ (cenar) cuando nos llamar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 de tomar esta clase, yo no __________ (estudiar) nunca 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spañ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 de ir a México, ellos nunca __________ (ir) a otro paí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ardo nunca __________ (entrenarse) tanto en invier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siempre __________ (llevar) una vida sana antes del año pas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 de conocerte, yo ya te __________ (ver) muchas ve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16600" y="33256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ff"/>
                </a:solidFill>
                <a:latin typeface="Comic Sans MS"/>
              </a:rPr>
              <a:t>habíamos ce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210B-03BB-4B87-95B1-089F73D0A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51:59Z</dcterms:modified>
  <cp:revision>69</cp:revision>
  <dc:subject/>
  <dc:title>PowerPoint Presentation</dc:title>
</cp:coreProperties>
</file>